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BCB-BFC9-47AF-BC1E-67F7D23D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A1C-D5F1-4E13-9141-AC1EF3C5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826-8109-40D3-AC01-DEB136DB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B00-DCF2-4961-8A8A-69FD56FA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B45-B527-453C-801E-9DA0C56C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BF1-64BD-49CD-A0AF-F85F1F63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2FD-6301-4A62-8A2E-481B62EE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CC8-8981-4B0B-83D0-D7DC261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6A1-E88E-4E5E-8C15-FDFB8554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813-04EF-4574-BFEA-D0DDA63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FA9-922B-4CD0-850F-01B62AD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1E6-A538-4303-B6A7-2C6D84A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E1B7-84F9-4564-8753-AFD381D82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: Representing Mock Patient Data in HL7 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en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60400" y="1450800"/>
          <a:ext cx="5623200" cy="5407200"/>
        </p:xfrm>
        <a:graphic>
          <a:graphicData uri="http://schemas.openxmlformats.org/drawingml/2006/table">
            <a:tbl>
              <a:tblPr/>
              <a:tblGrid>
                <a:gridCol w="331920"/>
                <a:gridCol w="1336680"/>
                <a:gridCol w="1295280"/>
                <a:gridCol w="121932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:Proper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wl:Restric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M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doma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rang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ctureRo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od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ive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tiality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y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Control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II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AD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 in CDA Document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On 19 April, 54-year-old man with diabetes was referred to the Hypertension Clinic in Jichi Medical School Hospital with symptoms of dizziness and orthostatic intole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header -  where you can find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9120" y="3247560"/>
            <a:ext cx="75661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linicalDocument xmlns="urn:hl7-org:v3" xmlns:mif="urn:hl7-org:v3/mif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ns:xsi="http://www.w3.org/2001/XMLSchema-instance" xsi:schemaLocation="urn:hl7-org:v3 CDA.xs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ypeId root="2.16.840.1.113883.1.3" extension="POCD_HD000040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 = "c266" root="2.16.840.1.113883.3933"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"11488-4" codeSystem="2.16.840.1.113883.6.1" displayName=“ReferNot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ypertension Clinica in JiChi Medical School Hospital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ffectiveTime value=“20070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nfidentialityCode code="N" codeSystem="2.16.840.1.113883.5.25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tId extension="BB35" root="2.16.840.1.113883.3.93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versionNumber value="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legalAuthenticat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uth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ustodia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where to find specific patient information: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560" y="2133360"/>
            <a:ext cx="6581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12345" root="2.16.840.1.113883.3.933"/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given&gt;Henry&lt;/given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amily&gt;Levin&lt;/famil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uffix&gt;the 7th&lt;/suffix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na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ministrativeGenderCode code="M" codeSystem="2.16.840.1.113883.5.1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irthTime value="1954092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M345" root="2.16.840.1.113883.3.933"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resent medical condition: de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0600" y="2057040"/>
            <a:ext cx="3978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Condition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has &lt;content ID=“d1"&gt;Diebetes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Diebetes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ast medical history: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8080" y="1966680"/>
            <a:ext cx="4597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History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history of &lt;content ID=“d2"&gt;Hypertension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Hypertens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Time time=“20050629”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ng RIM V3 in 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47293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781360" cy="558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81240" y="2787480"/>
            <a:ext cx="40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lass hierarchy is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ACT Type cod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, Participation,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81240" y="278748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lass hierarchies are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respective type code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Link and ActRelationship As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9528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Vocabulary And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2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Data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290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 are used as schemas for recording clinical event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uniqu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yp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Content (such as tables, lis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XML Content (such as sounds, video cli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lation of XDS Schema To OWL Constr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14680" y="1967040"/>
          <a:ext cx="5715000" cy="2925720"/>
        </p:xfrm>
        <a:graphic>
          <a:graphicData uri="http://schemas.openxmlformats.org/drawingml/2006/table">
            <a:tbl>
              <a:tblPr/>
              <a:tblGrid>
                <a:gridCol w="2286000"/>
                <a:gridCol w="1714680"/>
                <a:gridCol w="17143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rgetNamespac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:b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xml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default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|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//element or xs:element|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ObjectProperty owl:Restri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OnPrope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properties and restrictions of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datatype proper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element@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s: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range of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axOccur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inOcc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axCardinali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in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number of class’ relationshi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300680" y="533412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ot alll xds constructs used in CDA schema can b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WL constructs, such as “optional” and “inclu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3:22Z</dcterms:created>
  <dc:creator>agfa</dc:creator>
  <dc:description/>
  <dc:language>en-US</dc:language>
  <cp:lastModifiedBy>agfa</cp:lastModifiedBy>
  <dcterms:modified xsi:type="dcterms:W3CDTF">2008-02-12T15:26:24Z</dcterms:modified>
  <cp:revision>5</cp:revision>
  <dc:subject/>
  <dc:title>COI: Representing Mock Patient Data in HL7 Standards An example</dc:title>
</cp:coreProperties>
</file>